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54857"/>
        <c:axId val="80876212"/>
      </c:barChart>
      <c:catAx>
        <c:axId val="71154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76212"/>
        <c:crosses val="autoZero"/>
        <c:auto val="1"/>
        <c:lblAlgn val="ctr"/>
        <c:lblOffset val="100"/>
        <c:noMultiLvlLbl val="0"/>
      </c:catAx>
      <c:valAx>
        <c:axId val="80876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54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8728-E305-4F94-A322-C912D025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6FF-5EC1-4A41-8DE1-DDB2B7E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EC6E-4FC3-40D6-843E-D27AE6DA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F9F-2CCD-427F-8F7F-2EA531107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90C-C065-4C85-992A-BE074A11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ECF-154D-49FC-854A-B4F59FA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450-024F-48BD-8A4A-AB013D8A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1F4-B874-45A0-A81B-3B3BE52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19A-35BA-4374-8F41-D0651B28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35EA-2A53-4CB8-9BBD-540499CB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394-32E0-46FE-9C07-A87F235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85C5-690C-4C9B-9B2F-4E526C5F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5622B-8195-452E-BE91-8D5E196461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