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76841"/>
        <c:axId val="2416149"/>
      </c:barChart>
      <c:catAx>
        <c:axId val="78276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6149"/>
        <c:crosses val="autoZero"/>
        <c:auto val="1"/>
        <c:lblAlgn val="ctr"/>
        <c:lblOffset val="100"/>
        <c:noMultiLvlLbl val="0"/>
      </c:catAx>
      <c:valAx>
        <c:axId val="2416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76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980-1016-48A1-9F9E-8F6A2F72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55B-AA21-4500-9EDD-38C986A7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A6B-AF56-4A48-9651-EDE07168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56B-6395-446D-8E6F-C58C4103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444-3BDF-4F8E-AABE-79FA38F8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089-69C0-4CC6-BA0B-F64FC12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BB1-9B62-4F72-97B6-217550B3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4C7-617F-4513-9FF5-1BF3D408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5ADA-6141-42CF-A0EB-813AFE89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EC22-7141-4B81-8C26-B2AD8F1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C8F-6CDC-40CC-B667-AD86D57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489-3655-4D84-A7AA-A30D3C54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DF330-718B-4E89-9602-D1F72A7E8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