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20515"/>
        <c:axId val="82884390"/>
      </c:barChart>
      <c:catAx>
        <c:axId val="79720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4390"/>
        <c:crosses val="autoZero"/>
        <c:auto val="1"/>
        <c:lblAlgn val="ctr"/>
        <c:lblOffset val="100"/>
        <c:noMultiLvlLbl val="0"/>
      </c:catAx>
      <c:valAx>
        <c:axId val="82884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0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396-72DC-4CBE-ACE7-1FE1537E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CB5-3FB0-4C33-84E7-E323F1D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12E-8F4C-4547-BE4F-7755E71E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163-C38D-4597-83E2-9A592314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929-3172-433F-B972-B8909D3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02F-1E49-40D5-B9DA-EADA4DA7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BAF-4A03-4733-858F-53F0B262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1D9-7964-4E09-B704-3711B47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EE6-1DF9-416A-AB93-C428B1F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502-E736-4B41-82B9-A80E8468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390-2981-48BC-9017-2E74AF8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E21-A2FF-411D-8CDE-5A8A1F23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FEB81-5E8C-4292-94D0-B70E9B7AC6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