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8339"/>
        <c:axId val="8934144"/>
      </c:barChart>
      <c:catAx>
        <c:axId val="9748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144"/>
        <c:crosses val="autoZero"/>
        <c:auto val="1"/>
        <c:lblAlgn val="ctr"/>
        <c:lblOffset val="100"/>
        <c:noMultiLvlLbl val="0"/>
      </c:catAx>
      <c:valAx>
        <c:axId val="8934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8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D07-2697-40AA-B42E-91022490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B9B-C6C1-45EA-8D32-5608DBA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EEA-0474-4F95-B989-887D74EB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4F8-71E4-4E69-A1F1-CB53B099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F5D-26CB-414C-95FA-83427073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52D-D214-4049-8E5D-C77946EF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A34-BC02-4BC5-86D7-0E6EF475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037-FFC0-48C9-9E3C-F42F417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70D-92E8-4599-A356-9D5EDC3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EDA-E385-4C14-87B8-A0F4B3FE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19F-B27A-4A6F-9509-F645372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956-441B-43AE-B6B1-035A498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DBAC8-BB45-4835-B12D-DAF840714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