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79960"/>
        <c:axId val="73876021"/>
      </c:barChart>
      <c:catAx>
        <c:axId val="63799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76021"/>
        <c:crosses val="autoZero"/>
        <c:auto val="1"/>
        <c:lblAlgn val="ctr"/>
        <c:lblOffset val="100"/>
        <c:noMultiLvlLbl val="0"/>
      </c:catAx>
      <c:valAx>
        <c:axId val="738760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99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9D10-870C-415A-A1ED-6F1122CE3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6453-D0F8-424E-A2E9-9A46FE57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5166-3897-4681-8038-BE4674108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5C9B-E8A7-4005-88F1-6C2B8F9D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CB65-CEDF-4E5E-96A6-D9A292D3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D01B-09CD-4E36-A122-8D13F86C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0368-E26E-4FCF-9C1B-89D731AC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DDAB-1B0A-45A2-A529-A07A2745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0554-31A0-4859-9B6B-7EB6CA9C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F1BA-6324-4AB6-B233-08767CCF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27BC-9B76-46E5-B427-599C9B08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50C5-5CDC-4471-9122-910C234C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3E1F0-CF9E-4BC8-BDA3-AFC27B47E0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